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4244-B38B-4835-BEE9-30276849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88C9-714A-4074-9C1F-9223F5CBD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3EE-327E-491F-9709-23949AD2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C00-56E4-42E5-9D1A-7CE0274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9E3-22C8-46A6-B8CB-5B4EB768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CA7-384D-4E49-BF65-F1155AF3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26B-75F4-4122-B9AE-CC3AA420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D03E-FFE2-459B-9027-243FB3A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BD1B-D2E9-4948-BEF4-D0E91AD3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C21A-4791-4764-967F-A18ADAFE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EA59-1C4E-4A50-AADD-0A005C98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53E9-008E-43C3-80F3-C6A129FE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16E-230B-44C9-ADF5-88A695C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053-D905-4002-920E-7A182D6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D3E2-CCF6-47EE-9966-0E49674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DB04-FE3C-4968-B433-646AC01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D463-FF3C-477D-B38E-06B123EB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9580-DBFB-41EE-A597-2D841E89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F03-70A7-4777-9970-07F72F98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89F-6E23-4568-B03B-21375991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DBE-597E-4374-8293-A664C653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3EA-7900-46A0-8D80-5198D8C3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50E-892E-47FE-B197-C808021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58D-FF48-4B18-A13E-429FDA45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19C-8105-477C-822A-840C1FC0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CBB-1C7B-419C-995B-E3BFF72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3DF-98F6-40A7-9B72-BCEDED14C7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F4CF-0CF6-4C19-8563-BD617F159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2743200" y="3848040"/>
            <a:ext cx="3505320" cy="2628720"/>
            <a:chOff x="2743200" y="3848040"/>
            <a:chExt cx="3505320" cy="2628720"/>
          </a:xfrm>
        </p:grpSpPr>
        <p:sp>
          <p:nvSpPr>
            <p:cNvPr id="98" name="Line 4"/>
            <p:cNvSpPr/>
            <p:nvPr/>
          </p:nvSpPr>
          <p:spPr>
            <a:xfrm>
              <a:off x="4495680" y="3902760"/>
              <a:ext cx="0" cy="257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2743200" y="50529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 flipV="1">
              <a:off x="3893040" y="3848040"/>
              <a:ext cx="1204920" cy="24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ahoma"/>
              </a:rPr>
              <a:t>Direct Variatio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5960" y="1888920"/>
            <a:ext cx="891540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it and how do I know when I see i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Which of the following is a direct variation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7" name="Picture 111" descr=""/>
          <p:cNvPicPr/>
          <p:nvPr/>
        </p:nvPicPr>
        <p:blipFill>
          <a:blip r:embed="rId1"/>
          <a:stretch/>
        </p:blipFill>
        <p:spPr>
          <a:xfrm>
            <a:off x="1371600" y="1473120"/>
            <a:ext cx="6070680" cy="18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TPChart"/>
          <p:cNvGraphicFramePr/>
          <p:nvPr/>
        </p:nvGraphicFramePr>
        <p:xfrm>
          <a:off x="4508640" y="3048120"/>
          <a:ext cx="4570200" cy="37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3048120"/>
                    <a:ext cx="45702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201480"/>
            <a:ext cx="4116240" cy="24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AnswerNow"/>
          <p:cNvGrpSpPr/>
          <p:nvPr/>
        </p:nvGrpSpPr>
        <p:grpSpPr>
          <a:xfrm>
            <a:off x="2603520" y="4343400"/>
            <a:ext cx="1587600" cy="952560"/>
            <a:chOff x="2603520" y="4343400"/>
            <a:chExt cx="1587600" cy="952560"/>
          </a:xfrm>
        </p:grpSpPr>
        <p:sp>
          <p:nvSpPr>
            <p:cNvPr id="162" name="ANShape"/>
            <p:cNvSpPr/>
            <p:nvPr/>
          </p:nvSpPr>
          <p:spPr>
            <a:xfrm>
              <a:off x="2603520" y="434340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NText"/>
            <p:cNvSpPr/>
            <p:nvPr/>
          </p:nvSpPr>
          <p:spPr>
            <a:xfrm>
              <a:off x="2635200" y="434340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" name="CorShape1"/>
          <p:cNvSpPr/>
          <p:nvPr/>
        </p:nvSpPr>
        <p:spPr>
          <a:xfrm rot="10800000">
            <a:off x="223560" y="33429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TPChart"/>
          <p:cNvGraphicFramePr/>
          <p:nvPr/>
        </p:nvGraphicFramePr>
        <p:xfrm>
          <a:off x="4573440" y="1676520"/>
          <a:ext cx="4570560" cy="44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1676520"/>
                    <a:ext cx="457056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ich is the equation that describes the following table of values?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68" name="Object 68"/>
          <p:cNvGraphicFramePr/>
          <p:nvPr/>
        </p:nvGraphicFramePr>
        <p:xfrm>
          <a:off x="3276720" y="1866960"/>
          <a:ext cx="2574720" cy="255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9" name="Object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866960"/>
                    <a:ext cx="257472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80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88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 = -2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 = 2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 =  ½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y = 2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CorShape1"/>
          <p:cNvSpPr/>
          <p:nvPr/>
        </p:nvSpPr>
        <p:spPr>
          <a:xfrm rot="10800000">
            <a:off x="233280" y="2844720"/>
            <a:ext cx="279360" cy="2793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AnswerNow"/>
          <p:cNvGrpSpPr/>
          <p:nvPr/>
        </p:nvGrpSpPr>
        <p:grpSpPr>
          <a:xfrm>
            <a:off x="1600200" y="4648320"/>
            <a:ext cx="1587600" cy="952560"/>
            <a:chOff x="1600200" y="4648320"/>
            <a:chExt cx="1587600" cy="952560"/>
          </a:xfrm>
        </p:grpSpPr>
        <p:sp>
          <p:nvSpPr>
            <p:cNvPr id="175" name="ANShape"/>
            <p:cNvSpPr/>
            <p:nvPr/>
          </p:nvSpPr>
          <p:spPr>
            <a:xfrm>
              <a:off x="1600200" y="464832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ANText"/>
            <p:cNvSpPr/>
            <p:nvPr/>
          </p:nvSpPr>
          <p:spPr>
            <a:xfrm>
              <a:off x="1631880" y="464832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2860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Using Direct Variation to find unknowns (y = k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495440"/>
            <a:ext cx="7162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y varies directly with x, and y = 28 when x=7,  Find x when y = 52.              HOW??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38080" y="2790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ste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799160" y="2941560"/>
          <a:ext cx="330192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2941560"/>
                    <a:ext cx="330192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7"/>
          <p:cNvSpPr/>
          <p:nvPr/>
        </p:nvSpPr>
        <p:spPr>
          <a:xfrm>
            <a:off x="304920" y="332424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1. Find the constant var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28/7 = 4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04920" y="515304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2. Use y = kx. Find the unknown 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= 4x  or 52/4 = x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410080" y="5533920"/>
            <a:ext cx="2667240" cy="1015920"/>
          </a:xfrm>
          <a:prstGeom prst="rect">
            <a:avLst/>
          </a:prstGeom>
          <a:noFill/>
          <a:ln w="2232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13 when Y=5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838080" y="1500120"/>
            <a:ext cx="7162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y varies directly with x, and y = 3 when x=9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y when x = 40.5.     HOW??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621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ste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4844880" y="2819520"/>
          <a:ext cx="3384720" cy="32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4880" y="2819520"/>
                    <a:ext cx="33847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6"/>
          <p:cNvSpPr/>
          <p:nvPr/>
        </p:nvSpPr>
        <p:spPr>
          <a:xfrm>
            <a:off x="228600" y="3352680"/>
            <a:ext cx="396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1. Find the constant var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3/9 = 1/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28600" y="502920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2. Use y = kx. Find the unknown 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(1/3)40.5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13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410080" y="5334120"/>
            <a:ext cx="2667240" cy="1381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40.5 when Y=13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2860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Using Direct Variation to find unknowns (y = k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838080" y="1500120"/>
            <a:ext cx="7162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y varies directly with x, and y = 6 when x=-5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y when x = -8.               HOW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621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ste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Object 5"/>
          <p:cNvGraphicFramePr/>
          <p:nvPr/>
        </p:nvGraphicFramePr>
        <p:xfrm>
          <a:off x="4722840" y="2975040"/>
          <a:ext cx="330192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2840" y="2975040"/>
                    <a:ext cx="330192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28600" y="3352680"/>
            <a:ext cx="403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1. Find the constant var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6/-5 = -1.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-1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52280" y="502920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2. Use y = kx. Find the unknown 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-1.2(-8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9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334120" y="5486400"/>
            <a:ext cx="2666880" cy="1015920"/>
          </a:xfrm>
          <a:prstGeom prst="rect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-8 when Y=9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2860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Using Direct Variation to find unknowns (y = k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Using Direct Variation to solve word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09480" y="1676520"/>
            <a:ext cx="3200400" cy="2478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r uses 8 gallons of gasoline to travel 290 miles. How much gasoline will the car use to travel 400 mil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191120" y="1828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Step One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: Find points in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4791240" y="2511360"/>
          <a:ext cx="3369960" cy="285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1240" y="2511360"/>
                    <a:ext cx="336996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7"/>
          <p:cNvSpPr/>
          <p:nvPr/>
        </p:nvSpPr>
        <p:spPr>
          <a:xfrm>
            <a:off x="228600" y="4392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Step Tw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ind the constant variation and equ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290/8 or 36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6.25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646880" y="4267080"/>
            <a:ext cx="39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Step Thre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se the eq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unkn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  =36.25x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6.25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x = 11.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52280" y="4572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Using Direct Variation to solve word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1623960"/>
            <a:ext cx="3200400" cy="2844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o wages vary directly as the number of hours that he works.  If his wages for 5 hours are $29.75, how much will they be for 30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191120" y="1828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Step 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oints in 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4421160" y="2509920"/>
          <a:ext cx="428616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509920"/>
                    <a:ext cx="428616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6"/>
          <p:cNvSpPr/>
          <p:nvPr/>
        </p:nvSpPr>
        <p:spPr>
          <a:xfrm>
            <a:off x="609480" y="5029200"/>
            <a:ext cx="4038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Step Tw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ind the constant var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29.75/5 = 5.9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889880" y="4495680"/>
            <a:ext cx="38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Step Thre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se the eq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unknown. y=k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5.95(30) or  Y=178.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495360" y="395280"/>
            <a:ext cx="8153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imes New Roman"/>
              </a:rPr>
              <a:t>Direct Variation and its graph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09480" y="216360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mx +b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= slope and b = y-intercep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irection variation the equ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 = k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80880" y="5181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m = k or the constant and b = 0 therefore the graph will always go through…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371600" y="4572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ORIGIN!!!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2590920" y="419112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724280" y="2438280"/>
            <a:ext cx="0" cy="3505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3200400" y="2057040"/>
            <a:ext cx="3429000" cy="38098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if the following graph is a Direct Variation or no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6094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1523880" y="1676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5"/>
          <p:cNvSpPr/>
          <p:nvPr/>
        </p:nvSpPr>
        <p:spPr>
          <a:xfrm flipV="1">
            <a:off x="762120" y="1599840"/>
            <a:ext cx="1218960" cy="160020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579132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4724280" y="2590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5029200" y="1600200"/>
            <a:ext cx="1295280" cy="160020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144792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6094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990720" y="4343400"/>
            <a:ext cx="0" cy="220968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5715000" y="4267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48769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4"/>
          <p:cNvSpPr/>
          <p:nvPr/>
        </p:nvSpPr>
        <p:spPr>
          <a:xfrm>
            <a:off x="5145120" y="4267080"/>
            <a:ext cx="1789200" cy="187956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1127" h="1184">
                <a:moveTo>
                  <a:pt x="0" y="848"/>
                </a:moveTo>
                <a:cubicBezTo>
                  <a:pt x="348" y="544"/>
                  <a:pt x="696" y="240"/>
                  <a:pt x="864" y="128"/>
                </a:cubicBezTo>
                <a:cubicBezTo>
                  <a:pt x="1032" y="16"/>
                  <a:pt x="1127" y="0"/>
                  <a:pt x="1008" y="176"/>
                </a:cubicBezTo>
                <a:cubicBezTo>
                  <a:pt x="888" y="351"/>
                  <a:pt x="288" y="1016"/>
                  <a:pt x="144" y="1184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9718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7057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66688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7816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28600" y="685800"/>
            <a:ext cx="8686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Defini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direct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ans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constant of variati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 any similarities to y = mx + b?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way of writing this is k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19320" y="4924440"/>
            <a:ext cx="6933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wor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of var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) in a direct variation is the constant (unchanged) ratio of two variable qua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705720" y="3505320"/>
          <a:ext cx="479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505320"/>
                    <a:ext cx="479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7"/>
          <p:cNvSpPr/>
          <p:nvPr/>
        </p:nvSpPr>
        <p:spPr>
          <a:xfrm>
            <a:off x="29718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705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93432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6094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1523880" y="1676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762120" y="2362320"/>
            <a:ext cx="198108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5791320" y="1752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7242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29"/>
          <p:cNvSpPr/>
          <p:nvPr/>
        </p:nvSpPr>
        <p:spPr>
          <a:xfrm flipV="1">
            <a:off x="4724280" y="2395440"/>
            <a:ext cx="2133720" cy="53352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144792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6094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0"/>
          <p:cNvSpPr/>
          <p:nvPr/>
        </p:nvSpPr>
        <p:spPr>
          <a:xfrm flipH="1">
            <a:off x="1143000" y="4419720"/>
            <a:ext cx="533520" cy="198108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5715000" y="4267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8769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31"/>
          <p:cNvSpPr/>
          <p:nvPr/>
        </p:nvSpPr>
        <p:spPr>
          <a:xfrm>
            <a:off x="5029200" y="4572000"/>
            <a:ext cx="1066680" cy="167652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if the following graph is a Direct Variation or no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Examples of Direct Vari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528920" y="1817640"/>
          <a:ext cx="2579400" cy="23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817640"/>
                    <a:ext cx="25794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5"/>
          <p:cNvSpPr/>
          <p:nvPr/>
        </p:nvSpPr>
        <p:spPr>
          <a:xfrm>
            <a:off x="5029200" y="149544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 increas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, 7 ,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 incre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 14, 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39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hat is the constant of variation of the table abo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104840" y="500076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 = kx  we can say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=k or k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7=k or k =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8=k or k 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k stays consta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934320" y="5533920"/>
            <a:ext cx="2057400" cy="825480"/>
          </a:xfrm>
          <a:prstGeom prst="rect">
            <a:avLst/>
          </a:prstGeom>
          <a:noFill/>
          <a:ln w="1260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2x is the equa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4272120" y="4876920"/>
          <a:ext cx="788760" cy="78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2120" y="4876920"/>
                    <a:ext cx="7887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1036800" y="1836720"/>
          <a:ext cx="3220920" cy="279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836720"/>
                    <a:ext cx="32209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5029200" y="141912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 decreas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5,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 decre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 15,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41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hat is the constant of variation of the table abo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143000" y="500076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 = kx  we can say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10=k or k 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=k or k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=k or k 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k stays const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320" y="5533920"/>
            <a:ext cx="2057400" cy="825480"/>
          </a:xfrm>
          <a:prstGeom prst="rect">
            <a:avLst/>
          </a:prstGeom>
          <a:noFill/>
          <a:ln w="1260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x is the equa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10"/>
          <p:cNvGraphicFramePr/>
          <p:nvPr/>
        </p:nvGraphicFramePr>
        <p:xfrm>
          <a:off x="4317840" y="4863960"/>
          <a:ext cx="78912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7840" y="4863960"/>
                    <a:ext cx="789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11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Examples of Direct Vari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3"/>
          <p:cNvGraphicFramePr/>
          <p:nvPr/>
        </p:nvGraphicFramePr>
        <p:xfrm>
          <a:off x="1101600" y="1828800"/>
          <a:ext cx="3353040" cy="28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828800"/>
                    <a:ext cx="335304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4"/>
          <p:cNvSpPr/>
          <p:nvPr/>
        </p:nvSpPr>
        <p:spPr>
          <a:xfrm>
            <a:off x="5029200" y="149544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 decreas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 -16, -4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 decre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-4,-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4314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hat is the constant of variation of the table abo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494676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 = kx  we can say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/-4=k or k = 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/-16=k or k = 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/-40=k or k = 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k stays const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781680" y="5327640"/>
            <a:ext cx="2057400" cy="825480"/>
          </a:xfrm>
          <a:prstGeom prst="rect">
            <a:avLst/>
          </a:prstGeom>
          <a:noFill/>
          <a:ln w="1260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¼ x is the equa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9"/>
          <p:cNvGraphicFramePr/>
          <p:nvPr/>
        </p:nvGraphicFramePr>
        <p:xfrm>
          <a:off x="4257720" y="4800600"/>
          <a:ext cx="78912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7720" y="4800600"/>
                    <a:ext cx="789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0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Examples of Direct Vari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the constant of variation for the following direct variation?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Object 113"/>
          <p:cNvGraphicFramePr/>
          <p:nvPr/>
        </p:nvGraphicFramePr>
        <p:xfrm>
          <a:off x="2894040" y="1555920"/>
          <a:ext cx="2673360" cy="26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1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1555920"/>
                    <a:ext cx="267336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AnswerNow"/>
          <p:cNvGrpSpPr/>
          <p:nvPr/>
        </p:nvGrpSpPr>
        <p:grpSpPr>
          <a:xfrm>
            <a:off x="1600200" y="4648320"/>
            <a:ext cx="1587600" cy="952560"/>
            <a:chOff x="1600200" y="4648320"/>
            <a:chExt cx="1587600" cy="952560"/>
          </a:xfrm>
        </p:grpSpPr>
        <p:sp>
          <p:nvSpPr>
            <p:cNvPr id="138" name="ANShape"/>
            <p:cNvSpPr/>
            <p:nvPr/>
          </p:nvSpPr>
          <p:spPr>
            <a:xfrm>
              <a:off x="1600200" y="464832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ANText"/>
            <p:cNvSpPr/>
            <p:nvPr/>
          </p:nvSpPr>
          <p:spPr>
            <a:xfrm>
              <a:off x="1631880" y="464832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40" name="TPChart"/>
          <p:cNvGraphicFramePr/>
          <p:nvPr/>
        </p:nvGraphicFramePr>
        <p:xfrm>
          <a:off x="4572000" y="1676520"/>
          <a:ext cx="4570560" cy="44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TPChart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676520"/>
                    <a:ext cx="457056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CorShape1"/>
          <p:cNvSpPr/>
          <p:nvPr/>
        </p:nvSpPr>
        <p:spPr>
          <a:xfrm rot="10800000">
            <a:off x="161640" y="249984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Is this a direct variation?  If yes, give the constant of variation (k) and the eq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1214280" y="2360520"/>
          <a:ext cx="3562560" cy="35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0520"/>
                    <a:ext cx="3562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8"/>
          <p:cNvSpPr/>
          <p:nvPr/>
        </p:nvSpPr>
        <p:spPr>
          <a:xfrm>
            <a:off x="5715000" y="2590920"/>
            <a:ext cx="198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6/4 or 3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/2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11"/>
          <p:cNvGraphicFramePr/>
          <p:nvPr/>
        </p:nvGraphicFramePr>
        <p:xfrm>
          <a:off x="1214280" y="2360520"/>
          <a:ext cx="3480120" cy="34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0520"/>
                    <a:ext cx="348012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12"/>
          <p:cNvSpPr/>
          <p:nvPr/>
        </p:nvSpPr>
        <p:spPr>
          <a:xfrm>
            <a:off x="5791320" y="2590920"/>
            <a:ext cx="297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25/10 or 5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0/4 or 5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5/2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572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Is this a direct variation?  If yes, give the constant of variation (k) and the eq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3"/>
          <p:cNvGraphicFramePr/>
          <p:nvPr/>
        </p:nvGraphicFramePr>
        <p:xfrm>
          <a:off x="1214280" y="2360520"/>
          <a:ext cx="3384720" cy="33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0520"/>
                    <a:ext cx="338472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4"/>
          <p:cNvSpPr/>
          <p:nvPr/>
        </p:nvSpPr>
        <p:spPr>
          <a:xfrm>
            <a:off x="5791320" y="2590920"/>
            <a:ext cx="297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 values are differen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Is this a direct variation?  If yes, give the constant of variation (k) and the eq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3:52:59Z</dcterms:created>
  <dc:creator>Skip Tyler</dc:creator>
  <dc:description/>
  <dc:language>en-US</dc:language>
  <cp:lastModifiedBy>chmorgan</cp:lastModifiedBy>
  <dcterms:modified xsi:type="dcterms:W3CDTF">2013-11-22T19:53:58Z</dcterms:modified>
  <cp:revision>42</cp:revision>
  <dc:subject/>
  <dc:title>Direct Variation</dc:title>
</cp:coreProperties>
</file>